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6D9-9EE1-4E2F-A607-64C93796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398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5BF-7FB9-49CE-BF38-19B37625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398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398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093D-6B0F-45C5-BED6-022CA694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398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398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3988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DA3-4A80-4DE1-A5D0-9B0957B7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4A1-304F-4C5E-83DA-1CD19074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A6A1-5383-4C01-BFDA-44EA9374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5072-5469-478B-811C-FD9C1E03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DA24-B05C-4730-A565-A88B627A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68000" y="764640"/>
            <a:ext cx="82803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111-C518-4D70-95B9-A2CFAFDF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98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ABF4-A680-4954-8E57-B6965C0B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3988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E35-C5F3-4555-8BDF-95F0A7A8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98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DD07-394D-40F5-91C9-30858BA1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92360" y="5229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34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1A2D-2F53-4C48-9A13-99D1F42CC4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410160"/>
            <a:ext cx="9325080" cy="447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96360" cy="692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4920" y="39600"/>
            <a:ext cx="619200" cy="5810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2627280" y="189000"/>
            <a:ext cx="3714840" cy="3906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050920" y="652140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ffff"/>
                </a:solidFill>
                <a:latin typeface="Lucida Sans"/>
              </a:rPr>
              <a:t>Magíster en Gestión de Oper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2050920" y="652140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ffff"/>
                </a:solidFill>
                <a:latin typeface="Lucida Sans"/>
              </a:rPr>
              <a:t>Magíster en Gestión de Oper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6"/>
          <a:stretch/>
        </p:blipFill>
        <p:spPr>
          <a:xfrm>
            <a:off x="971640" y="1949400"/>
            <a:ext cx="7238880" cy="400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84692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PRONOSTICOS A NIVEL DE SKU UTILIZANDO INFORMACION AGREGAD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uan José Jove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fesor guía: Marcel G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ctubre de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6562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ón de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843280" y="2293920"/>
                <a:ext cx="29527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332000" y="4059360"/>
                <a:ext cx="66960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  <m:e/>
                        </m:nary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l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n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LO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pronosticar ventas para productos actuales y extensiones de lí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ámetros fáciles de interpretar y con gran cantidad de u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Ho and Chong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6778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ón de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erzo a nivel de atribu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erzo a nivel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722680" y="2585880"/>
                <a:ext cx="4057560" cy="6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668680" y="3286080"/>
                <a:ext cx="4429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úmero de parámetros del modelo independiente del número de niveles de cada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realizar pronósticos de ventas para productos actuales y extensiones de lín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Bell, Bonfrer and Chintagunta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7786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cado en participaciones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fecto fijo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nivel de 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132000" y="3284640"/>
                <a:ext cx="316872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611280" y="3141720"/>
            <a:ext cx="61927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umie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uede most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059280" y="5157720"/>
                <a:ext cx="33843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t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 interacción entre atributos incorporando el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fecto fij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obtener influencias del marketing mix y elasticidades a nivel de 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 información más “accesib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realizar pronósticos de ventas para productos actuales y extensiones de lí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odología de apoyo a las decisiones de lín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e pasa s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e SKUs elimin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uales agreg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e clase de marketing realiz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268360" y="1951200"/>
            <a:ext cx="5593320" cy="3565440"/>
            <a:chOff x="2268360" y="1951200"/>
            <a:chExt cx="5593320" cy="3565440"/>
          </a:xfrm>
        </p:grpSpPr>
        <p:sp>
          <p:nvSpPr>
            <p:cNvPr id="138" name=""/>
            <p:cNvSpPr/>
            <p:nvPr/>
          </p:nvSpPr>
          <p:spPr>
            <a:xfrm>
              <a:off x="2268360" y="4325760"/>
              <a:ext cx="4606920" cy="3985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idación e instrumentación de la so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69800" y="1951200"/>
              <a:ext cx="4606920" cy="3981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finición del 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69800" y="2743200"/>
              <a:ext cx="4606920" cy="3985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arrollo del mode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68360" y="3535200"/>
              <a:ext cx="4606920" cy="3985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lución del mode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68360" y="5118120"/>
              <a:ext cx="4606920" cy="3985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álisis y discusión de 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30520" y="2349360"/>
              <a:ext cx="142560" cy="358920"/>
            </a:xfrm>
            <a:prstGeom prst="downArrow">
              <a:avLst>
                <a:gd name="adj1" fmla="val 50000"/>
                <a:gd name="adj2" fmla="val 629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30520" y="3141720"/>
              <a:ext cx="142560" cy="358560"/>
            </a:xfrm>
            <a:prstGeom prst="downArrow">
              <a:avLst>
                <a:gd name="adj1" fmla="val 50000"/>
                <a:gd name="adj2" fmla="val 6287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30520" y="3933720"/>
              <a:ext cx="142560" cy="358920"/>
            </a:xfrm>
            <a:prstGeom prst="downArrow">
              <a:avLst>
                <a:gd name="adj1" fmla="val 50000"/>
                <a:gd name="adj2" fmla="val 629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0520" y="4724280"/>
              <a:ext cx="142560" cy="358920"/>
            </a:xfrm>
            <a:prstGeom prst="downArrow">
              <a:avLst>
                <a:gd name="adj1" fmla="val 50000"/>
                <a:gd name="adj2" fmla="val 629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" name=""/>
            <p:cNvCxnSpPr>
              <a:stCxn id="141" idx="3"/>
              <a:endCxn id="140" idx="3"/>
            </p:cNvCxnSpPr>
            <p:nvPr/>
          </p:nvCxnSpPr>
          <p:spPr>
            <a:xfrm flipV="1">
              <a:off x="6875280" y="2943000"/>
              <a:ext cx="2160" cy="792720"/>
            </a:xfrm>
            <a:prstGeom prst="bentConnector3">
              <a:avLst>
                <a:gd name="adj1" fmla="val 54800000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8" name=""/>
            <p:cNvCxnSpPr>
              <a:stCxn id="138" idx="3"/>
              <a:endCxn id="140" idx="3"/>
            </p:cNvCxnSpPr>
            <p:nvPr/>
          </p:nvCxnSpPr>
          <p:spPr>
            <a:xfrm flipV="1">
              <a:off x="6875280" y="2943000"/>
              <a:ext cx="2160" cy="1583280"/>
            </a:xfrm>
            <a:prstGeom prst="bentConnector3">
              <a:avLst>
                <a:gd name="adj1" fmla="val 54800000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5627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ción por categ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03640" y="3716280"/>
            <a:ext cx="2625840" cy="19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79280" y="1887480"/>
          <a:ext cx="8748720" cy="3549600"/>
        </p:xfrm>
        <a:graphic>
          <a:graphicData uri="http://schemas.openxmlformats.org/drawingml/2006/table">
            <a:tbl>
              <a:tblPr/>
              <a:tblGrid>
                <a:gridCol w="1638360"/>
                <a:gridCol w="546120"/>
                <a:gridCol w="546120"/>
                <a:gridCol w="547560"/>
                <a:gridCol w="546120"/>
                <a:gridCol w="549360"/>
                <a:gridCol w="546120"/>
                <a:gridCol w="547560"/>
                <a:gridCol w="546120"/>
                <a:gridCol w="546120"/>
                <a:gridCol w="547920"/>
                <a:gridCol w="547560"/>
                <a:gridCol w="547560"/>
                <a:gridCol w="546120"/>
              </a:tblGrid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sión bibliografía bá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rimentos de prue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álisis y elección de metodolog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tención de da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u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idación e Instrument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álisis y discusión de result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icancias y aplica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lización del infor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835280" y="2492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6360" y="2852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95640" y="3141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67280" y="378936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414972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350028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4581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04000" y="4941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08720" y="5300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38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9640" y="1773360"/>
            <a:ext cx="80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trabajara bajo un nuevo enfoque que perm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nosticar ventas para productos actuales y extensiones de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elasticidades a nivel de 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r modelos independientes del número de SKUs en la categ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écnica nueva que no ha sido realmente prob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ia de los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a aplicabilidad del modelo a distintas dec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85840" y="836640"/>
            <a:ext cx="6842160" cy="5432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346560" y="1484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¿Pregunt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73929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Es posible trabajar a nivel de SK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116000" y="2637000"/>
            <a:ext cx="6985080" cy="3097080"/>
            <a:chOff x="1116000" y="2637000"/>
            <a:chExt cx="6985080" cy="3097080"/>
          </a:xfrm>
        </p:grpSpPr>
        <p:sp>
          <p:nvSpPr>
            <p:cNvPr id="56" name=""/>
            <p:cNvSpPr/>
            <p:nvPr/>
          </p:nvSpPr>
          <p:spPr>
            <a:xfrm>
              <a:off x="5654880" y="5292000"/>
              <a:ext cx="244584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g John, Pro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51760" y="5292000"/>
              <a:ext cx="2102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0 - 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16000" y="5292000"/>
              <a:ext cx="2435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endas de convenie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54880" y="4849200"/>
              <a:ext cx="244584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as, Economax, Montecar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51760" y="4849200"/>
              <a:ext cx="2102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000 - 10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16000" y="4849200"/>
              <a:ext cx="2435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ermercados económ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54880" y="4407120"/>
              <a:ext cx="244584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mac, Unimarc, Sta. Isab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51760" y="4407120"/>
              <a:ext cx="2102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16000" y="4407120"/>
              <a:ext cx="2435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ermercados tradici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54880" y="3963960"/>
              <a:ext cx="244584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ko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51760" y="3963960"/>
              <a:ext cx="21027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16000" y="3963960"/>
              <a:ext cx="24357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permercados económ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54880" y="3521880"/>
              <a:ext cx="244584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Jumb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51760" y="3521880"/>
              <a:ext cx="2102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16000" y="3521880"/>
              <a:ext cx="243576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permerc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54880" y="3079080"/>
              <a:ext cx="244584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der, Carrefo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51760" y="3079080"/>
              <a:ext cx="2102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6000" y="3079080"/>
              <a:ext cx="2435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gamerc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54880" y="2637000"/>
              <a:ext cx="24458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Ejemp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51760" y="2637000"/>
              <a:ext cx="2102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Variedad de produc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57400" y="2637000"/>
              <a:ext cx="2435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  <a:ea typeface="Arial"/>
                </a:rPr>
                <a:t>For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16000" y="263700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16000" y="573408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16000" y="2637000"/>
              <a:ext cx="0" cy="3097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01080" y="2637000"/>
              <a:ext cx="0" cy="3097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16000" y="307908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16000" y="352188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16000" y="396396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00" y="440712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16000" y="484920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00" y="5292000"/>
              <a:ext cx="69850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-30600" y="6093000"/>
            <a:ext cx="77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nte: Máximo Bosch, apuntes del curso gestión de operaciones para la industria de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dministración por categor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tegory Management implica definir a las categorías como unidades estratégicas de negocios y que es necesario involucrar al proveedor para asegurar un expertise suficiente sobre la categoría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dministración por categor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iona bien a nivel táctico –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tomar decisiones para miles de productos distintos respecto a las variables precio, espacio, surtido y promo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90936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¿Como resolver problemas a nivel de SK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38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3240360" cy="2552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V="1">
            <a:off x="3995640" y="2492280"/>
            <a:ext cx="150984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95640" y="3284280"/>
            <a:ext cx="15098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3645000"/>
            <a:ext cx="15098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5640" y="3645000"/>
            <a:ext cx="15098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80000" y="306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or: Mento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3933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año: 100 g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2276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a: Aquafr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80000" y="4724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o: Ni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9640" y="364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90936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¿Como resolver problemas a nivel de SK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002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os como conjuntos de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 como función aditiva de los niveles de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360" y="4076640"/>
            <a:ext cx="237672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der and Hardie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ía y 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Fader and Hardie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 and Chong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, Bonfrer and Chintagunta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8:12:37Z</dcterms:created>
  <dc:creator>Juan José Jove A.</dc:creator>
  <dc:description/>
  <dc:language>en-US</dc:language>
  <cp:lastModifiedBy>julie lagos</cp:lastModifiedBy>
  <dcterms:modified xsi:type="dcterms:W3CDTF">2004-10-22T14:11:45Z</dcterms:modified>
  <cp:revision>56</cp:revision>
  <dc:subject/>
  <dc:title>PRONOSTICOS A NIVEL DE SKU UTILIZANDO INFORMACION AGREGADA</dc:title>
</cp:coreProperties>
</file>